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107C-2B69-4450-91A0-56DD0E7B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9AF-0EF8-4BB4-9D46-D37B8248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7EF-0259-4521-8CC0-7C55C8DF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626-8076-4637-AA4E-B2991B5B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509-6307-47B3-83D1-1D3629B4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E2D-A822-4C4E-A064-3851FD08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87B-A718-4BE1-BFEC-2FBDEB09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1A7-92B0-40F8-9771-CCF32FFE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0D8-B9CD-4B2E-A912-D8DDB636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5A6-56F1-4EAD-8178-A4487C0A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4AF6-3604-4DF7-87DC-244AFACA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5B5-89F3-4E19-B3A0-C0EFD348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739C-B8E5-4377-9D59-7B0887AF3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TLiJE-j1-I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5-1 –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cids and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57200" y="762120"/>
            <a:ext cx="800100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ing Ac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id is a compound that produces hydronium ions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n dissolved in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1676520"/>
            <a:ext cx="80773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 of acids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Sour taste:  foods like lemons, grapefruits, limes contain cit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id.  Vinegar contains acet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295280" y="2819520"/>
            <a:ext cx="7162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Reactivity with metals:  aluminum foil can react with the citric acid from a tom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action between an acid and a metal is an single-replacement reaction (chemical reaction in which one element takes the place of another element in a comp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676520" y="4572000"/>
            <a:ext cx="685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 + 2HC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Zn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905120" y="4952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s reacts to pro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aturated Hydrocarb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33520" y="11430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ocarbon – organic compound that contains only the elements hydrogen and c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838080" y="25146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meth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33520" y="19051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urated hydrocarbon – all bonds are single bonds .  These use the maximum amount of hydrogen atoms for each carbon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33520" y="2895480"/>
            <a:ext cx="8001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a hydrocarbon are determined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the number of carbon atoms –more carbon atoms, the higher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il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the arrangement of the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905120" y="44956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ways to arrange carb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209680" y="502920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ight chains (see figure 4 page 2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ranched chains– (compare how butane to isobutane 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2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133720" y="1066680"/>
            <a:ext cx="6248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ave the same molecular formula, just a different structur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om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these structural differences can effect some properties of the is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re carbons we add, the more isomers w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3880" y="44956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Rings – (see figure 5 on 2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5-3 da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33520" y="106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nsaturated Hydrocarb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38080" y="15238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ometimes hydrocarbons can contain multiple bonds (double, triple) = unsaturated hydrocarb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143000" y="2286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e classify unsaturated hydrocarbons by bond type and arrangement of the carbon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143000" y="3048120"/>
            <a:ext cx="73915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Typ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lkenes: have a double bond between the two carbon atoms. (draw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ne diagram pg 266 in no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ruit bearing plants produce eth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ames in end -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295280" y="502920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lkynes: hydrocarbons that have one or more triple bonds. (dra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yne diagram pg. 266 in no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st reactive hydrocarb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ames end in -y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143000" y="114300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romatic:  hydrocarbons which contain similar ring structures (draw benzene ring from 266 in no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any of these compounds have strong o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09480" y="2362320"/>
            <a:ext cx="8153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common hydrocarbon in our everyday life?  Fossil fue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ssil fuels are mixtures of hydrocarbons formed from plant and animal rem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types of fossil fu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90720" y="40384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ostly aromatic hydrocarbons.  High ratio of carbon to hydrogen, causing more soot when bu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90720" y="4876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tural G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made from marine remains. Main ingredient is methane—same stuff produced by cows as they digest grass.  Also contains etha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trole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crude oil, texas tea!  Made from marine org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114300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mplex hydrocarbons(long-branched alkanes and alky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seful only if separated into simpler mixtures:  gas &amp; heating o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80880" y="1981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o use fossil fuels, we must combust (burn)  them.  The combustion of fossil fuel produces 2 primary product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38080" y="2743200"/>
            <a:ext cx="7543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Carbon dioxide: if too much fossil fuel is burned, an increase in the amount of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y increase temperature, amounts of rain and sea levels around the wor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219320" y="3809880"/>
            <a:ext cx="72388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oo much burning also causes the acidity of rain to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ain has some acidity, with a pH of about 5.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burning increases sulfur dioxide and nitrogen oxides and when dissolved in water, produces sulfuric acid and nitric aci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uses structural damage on metals and conc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5-4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c Acids and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38080" y="13716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ydrogen atoms can be replaced in a reaction by an atom or by a group of atoms = substituted hyrdroc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219320" y="2057400"/>
            <a:ext cx="7238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atom or group of atoms that does the substitution is called the functional gro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unctional group determines the properties of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762120" y="34290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rganic Aci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itric acid is an example of an organic acid (sour taste in lem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219320" y="41148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functional group is a carboxyl group (-CO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38080" y="4572000"/>
            <a:ext cx="815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rganic B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mime is an example of an organic base (smell of rotten fi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295280" y="5410080"/>
            <a:ext cx="762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unctional group is amino group )-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mers and Polymers, Oh M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0666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metimes molecules can be built up from smaller units which are linked togeth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914400" y="18288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olymer:  large molecule that forms when many smaller molecules are linked together by COVALENT BOND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143000" y="25909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smaller units are called mon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219320" y="30481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metimes polymers are made up of just one monomer or they can be made up of more than one mon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219320" y="373392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 be natural (cotton and wool) or synthetic (man m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523880" y="41148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ynthetic examples:  nylon, rubber, polythylene (plas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Color changes in Indica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Indicator – is any substance that changes color in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ce of an acid or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057400" y="1828800"/>
            <a:ext cx="495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Litmus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lue litmus paper turns red when in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057400" y="2590920"/>
            <a:ext cx="556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if an unknown solution is placed on b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mus paper and it turns red, its an ac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981080" y="3276720"/>
            <a:ext cx="5562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mon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etic acid – vine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rbonic acid – Carbonated bever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itric acid – Fertil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ulfuric acid – Car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 of Bases inclu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Bitter taste:  unsweetened chocolate, cough syrups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676520" y="26668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Slippery feel:  wet soap, cleaning produc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85800" y="457200"/>
            <a:ext cx="6248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ing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ase= compound that produces hydroxide ions (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n dissolved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90720" y="1523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O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+ 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676520" y="3048120"/>
            <a:ext cx="5790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Color changes:  turns red litmus b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 if an unknown solution turns a piece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 litmus blue, it’s 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676520" y="4114800"/>
            <a:ext cx="6400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b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uminum hydroxide = deodorant, ant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lcium hydroxide = concrete, pl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agnesium hydroxide = antacid, lax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alization and Salt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90720" y="9907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 reaction between an acid and a base is called neutr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371600" y="12952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asically cancels each other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371600" y="15238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egative ions from acid combine with positive ions of base to produce ionic compound called s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295280" y="2133720"/>
            <a:ext cx="6172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utraliztion reaction between an acid and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produces a salt and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600200" y="289548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+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+ 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76520" y="33526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ci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(base)            (water)       (sa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600200" y="3657600"/>
            <a:ext cx="6095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Sa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dium chloride = food flav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agnesium chloride = de-icer for r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lcium carbonate = chalk, marble floors, and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mmonium nitrate = fertilizer, cold p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5-2  Strength of Acids and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90720" y="914400"/>
            <a:ext cx="723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3520" y="10666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ow can you describe the acidity or basicity of a solu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38080" y="1371600"/>
            <a:ext cx="65534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using a number scale from 0 to 14 to describe the concentration of hydronium ions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 a solution.  This scale is the pH s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380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H measure how much hydronium ions are in 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38080" y="266688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a solution measure to a 7, then it is neutral (not acid or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838080" y="29718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a solution measures over a 7, it is 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838080" y="33526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a solution measures under a 7, it is an acid –see figure 22 on page 2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990720" y="38862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hat does this mean in regard to hydronium concetr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219320" y="4038480"/>
            <a:ext cx="6324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wer the pH value, the greater th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 concentration in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219320" y="4724280"/>
            <a:ext cx="62481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igher the pH value, the lower th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 concentration in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ong Acids and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1219320"/>
            <a:ext cx="7772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en acids almost completely ionize (most molecules ionize) when dissolved in water, they a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ong ac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ulfuric and nitric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33520" y="2209680"/>
            <a:ext cx="784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bases dissociate (seperation of ions as they dissolve) almost completely in water, they are consider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ong b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3520" y="29718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ak acids and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85800" y="3276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eak acids and bases ionize (acids) or dissociate (bases) only slightly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990720" y="40384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 Acids = citric acid in OJ and acids in vine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990720" y="441972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 Bases = toothpase and shamp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85800" y="4952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ntration vs. Strength…the same righ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990720" y="11430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ncentration is amount of solute (substance whose particles are dissolved in a solution) dissolved in a given amoun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90720" y="18288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trength is the solute’s tendency to form ions in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14400" y="20574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 not assume that strong acids have a low pH because concentration also affects 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85800" y="266688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s = solution that is resistant to large changes in pH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eak acids and bases are used to make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600200" y="34290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y does this work?  Because the buffer reacts with both the acid and base, keeping the pH relatively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62120" y="3962520"/>
            <a:ext cx="784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lytes: substance that ionizes or dissasociates into ions when  it dissolves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ports dr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600200" y="5029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they wor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ore the balance of ions in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acids and bases are strong electrolytes because they dissociate or ionize almost comple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752480" y="1143000"/>
            <a:ext cx="6172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alts are strong e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atteries produce electricity which contain electroly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uel ce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7520040" cy="1993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838080" y="2590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5-3 da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09480" y="1143000"/>
            <a:ext cx="7925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a compound contains carbon and hydrogen we call it an organic compound.  They often combine 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an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90720" y="18288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90% of all compounds are orga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90720" y="2209680"/>
            <a:ext cx="77724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has 4 valence electrons which allows it to form many bonds to achieve stability.  4 single bonds, a double bonds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asically any combination of 4 to meet valence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066680" y="3352680"/>
            <a:ext cx="73915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forms of c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erenes ( large hollow spheres or cages of carbon) found in meteo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4:03:38Z</dcterms:created>
  <dc:creator>Farwell Area Schools</dc:creator>
  <dc:description/>
  <dc:language>en-US</dc:language>
  <cp:lastModifiedBy>John Pakledinaz</cp:lastModifiedBy>
  <dcterms:modified xsi:type="dcterms:W3CDTF">2009-11-12T15:49:17Z</dcterms:modified>
  <cp:revision>18</cp:revision>
  <dc:subject/>
  <dc:title>Note Guide 5-1 – Acids and Bases</dc:title>
</cp:coreProperties>
</file>